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4621-459C-4DC1-890A-CC461DC9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8C6-3087-4353-846B-8FD14E2E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CEA-E7CC-4985-80B9-48799F43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248-D2DB-4836-9D69-73989E77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41AD-997D-47EF-9AA8-F50E704B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FDAC-8D5C-470C-BB55-AF95025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9031-2AF8-442B-B53C-CD97334A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62C4-CC3E-45E5-A430-3271C39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69A-D49B-424B-958F-6AFC4E2B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74CD-3CEC-4176-95B1-2F08B7C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2BFC-9E10-4163-845E-266B93E8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03C-EBCC-4B66-B4C7-9DCF28EA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8147-C2AC-4F3E-9A32-162DB55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6C76-B9D8-4E32-B6C3-F1E9EA1A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B298-2070-473B-8427-682657B0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4D0-DCA8-40D0-A68A-0260E5C5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3DF6-57B4-4C62-934B-CBCBFBA8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C77-0F1C-4B44-9825-2FA94929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70B-C04D-4A80-B573-25FC3356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527-572C-4292-B9A1-CEEC5E0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1E4-0524-4787-9C5D-D960B36C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3BAF-88D6-44F1-BC5C-4709DF7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7B8-EA0C-4CB2-91E8-2EF74562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E85-4925-46DE-89A1-6E220171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A1314E-C834-42C6-8A5D-D100E4767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9E8D9-9FDB-4D81-B8FA-C8E5D2749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180360" y="1413000"/>
            <a:ext cx="9576720" cy="60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й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Тренируем пальчики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ем  реч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Для детей младшего дошкольного возраста 2-3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ставитель: Крушни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лья Серге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дрес: 623530, Свердловская область, г. Богданович, ул. Октябрьская, д.3. Тел.: 8 (343 76)5-68-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21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3640" cy="1224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дошкольное учреждение Детский сад №45 комбинированного вида «Карамелька»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ГО Богданович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845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азноцветные бусы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6130440" cy="435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наталья\Desktop\Новая папка\c4e5fd62-2878-4269-9967-4ab0c2c18bde.jpg"/>
          <p:cNvPicPr/>
          <p:nvPr/>
        </p:nvPicPr>
        <p:blipFill>
          <a:blip r:embed="rId1"/>
          <a:stretch/>
        </p:blipFill>
        <p:spPr>
          <a:xfrm>
            <a:off x="467640" y="1495800"/>
            <a:ext cx="3960000" cy="5280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Users\наталья\Desktop\Новая папка\04378dc1-d515-42c7-b694-145b8d929139.jpg"/>
          <p:cNvPicPr/>
          <p:nvPr/>
        </p:nvPicPr>
        <p:blipFill>
          <a:blip r:embed="rId2"/>
          <a:stretch/>
        </p:blipFill>
        <p:spPr>
          <a:xfrm>
            <a:off x="4999320" y="1539360"/>
            <a:ext cx="3927600" cy="52365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3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наталья\Desktop\Новая папка\4a98126a-c352-4bb0-ad5f-0b41955b12dc.jpg"/>
          <p:cNvPicPr/>
          <p:nvPr/>
        </p:nvPicPr>
        <p:blipFill>
          <a:blip r:embed="rId1"/>
          <a:stretch/>
        </p:blipFill>
        <p:spPr>
          <a:xfrm>
            <a:off x="395640" y="162864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наталья\Desktop\Новая папка\59c97c99-b935-425f-ae4e-1dea31938afe.jpg"/>
          <p:cNvPicPr/>
          <p:nvPr/>
        </p:nvPicPr>
        <p:blipFill>
          <a:blip r:embed="rId2"/>
          <a:stretch/>
        </p:blipFill>
        <p:spPr>
          <a:xfrm>
            <a:off x="4716000" y="162864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5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ищепк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аталья\Desktop\Новая папка\b3187a0c-2f5c-4d28-a48c-bf3ba47ecdae.jpg"/>
          <p:cNvPicPr/>
          <p:nvPr/>
        </p:nvPicPr>
        <p:blipFill>
          <a:blip r:embed="rId1"/>
          <a:stretch/>
        </p:blipFill>
        <p:spPr>
          <a:xfrm>
            <a:off x="323640" y="1556640"/>
            <a:ext cx="3850920" cy="5134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наталья\Desktop\Новая папка\734c4952-c529-4438-893b-7130075ef227.jpg"/>
          <p:cNvPicPr/>
          <p:nvPr/>
        </p:nvPicPr>
        <p:blipFill>
          <a:blip r:embed="rId2"/>
          <a:stretch/>
        </p:blipFill>
        <p:spPr>
          <a:xfrm>
            <a:off x="4637880" y="1556640"/>
            <a:ext cx="3850920" cy="51346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наталья\Desktop\Новая папка\df735aca-dd95-459e-89d7-4ed678974210.jpg"/>
          <p:cNvPicPr/>
          <p:nvPr/>
        </p:nvPicPr>
        <p:blipFill>
          <a:blip r:embed="rId1"/>
          <a:stretch/>
        </p:blipFill>
        <p:spPr>
          <a:xfrm>
            <a:off x="467640" y="152820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наталья\Desktop\Новая папка\25cc0c54-6b5e-4b91-acf4-a5ac6fc880eb.jpg"/>
          <p:cNvPicPr/>
          <p:nvPr/>
        </p:nvPicPr>
        <p:blipFill>
          <a:blip r:embed="rId2"/>
          <a:stretch/>
        </p:blipFill>
        <p:spPr>
          <a:xfrm>
            <a:off x="4808520" y="1528200"/>
            <a:ext cx="3816000" cy="508824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83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с предметам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наталья\Desktop\Новая папка\61acc9f1-df43-468d-aa8c-50c2967c0535.jpg"/>
          <p:cNvPicPr/>
          <p:nvPr/>
        </p:nvPicPr>
        <p:blipFill>
          <a:blip r:embed="rId1"/>
          <a:stretch/>
        </p:blipFill>
        <p:spPr>
          <a:xfrm>
            <a:off x="395640" y="1610280"/>
            <a:ext cx="3816000" cy="508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наталья\Desktop\Новая папка\fc1c8114-d040-43d1-ad99-fbee129e0d82.jpg"/>
          <p:cNvPicPr/>
          <p:nvPr/>
        </p:nvPicPr>
        <p:blipFill>
          <a:blip r:embed="rId2"/>
          <a:stretch/>
        </p:blipFill>
        <p:spPr>
          <a:xfrm>
            <a:off x="4716000" y="1623600"/>
            <a:ext cx="3783240" cy="5044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ы – шнуровк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наталья\Desktop\Новая папка\77119b03-f733-4f14-a1e0-c9ee9667b297.jpg"/>
          <p:cNvPicPr/>
          <p:nvPr/>
        </p:nvPicPr>
        <p:blipFill>
          <a:blip r:embed="rId1"/>
          <a:stretch/>
        </p:blipFill>
        <p:spPr>
          <a:xfrm>
            <a:off x="611640" y="1656720"/>
            <a:ext cx="3741120" cy="498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наталья\Desktop\Новая папка\253558c3-f657-48b8-a224-6fa4632cc521.jpg"/>
          <p:cNvPicPr/>
          <p:nvPr/>
        </p:nvPicPr>
        <p:blipFill>
          <a:blip r:embed="rId2"/>
          <a:stretch/>
        </p:blipFill>
        <p:spPr>
          <a:xfrm>
            <a:off x="5004000" y="1656720"/>
            <a:ext cx="3741120" cy="49881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наталья\Desktop\Новая папка\083792e4-3ec4-4d45-b2ba-b5622d5ebd1b.jpg"/>
          <p:cNvPicPr/>
          <p:nvPr/>
        </p:nvPicPr>
        <p:blipFill>
          <a:blip r:embed="rId1"/>
          <a:stretch/>
        </p:blipFill>
        <p:spPr>
          <a:xfrm>
            <a:off x="467640" y="1628640"/>
            <a:ext cx="378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наталья\Desktop\н.р. 1 мл.(3)\2edbfdd3-2087-441d-ba93-5a2d34260e35.jpg"/>
          <p:cNvPicPr/>
          <p:nvPr/>
        </p:nvPicPr>
        <p:blipFill>
          <a:blip r:embed="rId2"/>
          <a:stretch/>
        </p:blipFill>
        <p:spPr>
          <a:xfrm>
            <a:off x="4932000" y="1604880"/>
            <a:ext cx="3744000" cy="49921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наталья\Desktop\н.р.1мл.(2)\ba0ba9a7-073e-4799-b49b-2c1b8021ccf8.jpg"/>
          <p:cNvPicPr/>
          <p:nvPr/>
        </p:nvPicPr>
        <p:blipFill>
          <a:blip r:embed="rId1"/>
          <a:stretch/>
        </p:blipFill>
        <p:spPr>
          <a:xfrm>
            <a:off x="395640" y="1655280"/>
            <a:ext cx="3826080" cy="51015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3" descr="C:\Users\наталья\Desktop\н.р. 1 мл.(3)\ff91934e-712e-4686-87e0-36f7ccad902d.jpg"/>
          <p:cNvPicPr/>
          <p:nvPr/>
        </p:nvPicPr>
        <p:blipFill>
          <a:blip r:embed="rId2"/>
          <a:stretch/>
        </p:blipFill>
        <p:spPr>
          <a:xfrm>
            <a:off x="4788000" y="1655280"/>
            <a:ext cx="3760200" cy="50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67640" y="1484640"/>
            <a:ext cx="3921480" cy="52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969080" y="1519560"/>
            <a:ext cx="3887280" cy="518328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541440" y="189000"/>
            <a:ext cx="856908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440" cy="522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00"/>
          <p:cNvPicPr/>
          <p:nvPr/>
        </p:nvPicPr>
        <p:blipFill>
          <a:blip r:embed="rId1"/>
          <a:stretch/>
        </p:blipFill>
        <p:spPr>
          <a:xfrm>
            <a:off x="1979640" y="1628640"/>
            <a:ext cx="6264000" cy="4968360"/>
          </a:xfrm>
          <a:prstGeom prst="rect">
            <a:avLst/>
          </a:prstGeom>
          <a:ln w="9525">
            <a:noFill/>
          </a:ln>
        </p:spPr>
      </p:pic>
    </p:spTree>
  </p:cSld>
  <p:transition advTm="15000"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60640"/>
            <a:ext cx="8496360" cy="612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втор проекта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ушницкая Наталья сергеевн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итатель  первой младшей группы.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должительность проект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 недели (с 01.04.2021 по 23.04.2021г)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ники проект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и, воспитатели, родители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 детей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- 3 год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6067440" y="1763640"/>
            <a:ext cx="162828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ация областей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26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о-коммуникативн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навательно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удожественно-эстет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ческое развитие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чевое развит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24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Актуальность проблемы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96000" cy="5113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же давно ни для кого не секрет, что развитие мелкой моторики (гибкости и точности движений пальцев рук) и тактильной чувствительности - мощный стимул развития у детей восприятия, внимания, памяти, мышления и речи. Дети, у которых лучше развиты мелкие движения рук, имеют более развитый мозг, особенно те его отделы, которые отвечают за речь. Пальцы рук наделены большим количеством рецепторов, посылающих импульсы в центральную нервную систему челове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тому очень важно уже с самого раннего возраста развивать у ребёнка мелкую моторику. Но просто делать упражнения малышу будет скучно – надо обратить их в интересные и полезные игры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лкая моторика рук – это разнообразные движения пальчиками и ладонями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уя разнообразную деятельность детей с предметами, игрушками и природными объектами, важно активизировать у детей сенсорные основы познания, учить малышей использовать разные органы чувств для получения информации об окружающем мире: зрение, слух, обоняние, тактильные ощущени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240" cy="148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640" y="1772640"/>
            <a:ext cx="8229240" cy="4424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развития мелкой моторики и координации движений пальцев рук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332640"/>
            <a:ext cx="822924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проекта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3640" y="1556640"/>
            <a:ext cx="8002800" cy="424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ршенствовать предметно - развивающую среду для развития мелкой моторик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мелкую моторику пальцев рук у детей раннего возраста через использование разнообразных форм, методов и приемов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способности координированной работы рук со зрительным восприяти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эмоциональную отзывчивость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вать коммуникативные навы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0872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проектной деятельности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640" y="1412640"/>
            <a:ext cx="885672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бор темы, постановка целей и задач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бор литературного материала по созданию картотеки пальчиковых игр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 слова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бор материала для игр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о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ссаж рук с помощью подручных предметов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 пальчиковой гимнастик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едение д/игр и п/игр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ультации для родителей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ительный этап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зентация опыта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формление проектной деятельност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ведение итогов, сделать вывод по теме проектной деятельност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841800" cy="1007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74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жидаемый результат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2398680"/>
            <a:ext cx="878472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у детей младшего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ллектуальное развитие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полнение предметно-развивающей сре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гащение родительского опыта в вос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edg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9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1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3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6768720" cy="107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льчиковые игры со словами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39640" y="5445360"/>
            <a:ext cx="6336360" cy="129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Users\наталья\Desktop\Новая папка\f48312cf-c86a-4c26-9d94-8982b6f303dd.jpg"/>
          <p:cNvPicPr/>
          <p:nvPr/>
        </p:nvPicPr>
        <p:blipFill>
          <a:blip r:embed="rId1"/>
          <a:srcRect l="0" t="19012" r="0" b="0"/>
          <a:stretch/>
        </p:blipFill>
        <p:spPr>
          <a:xfrm>
            <a:off x="373320" y="1556640"/>
            <a:ext cx="8416800" cy="511236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theme/theme1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Тема Office">
  <a:themeElements>
    <a:clrScheme name="1_Тема Office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  <Words>454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20:23Z</dcterms:created>
  <dc:creator>Федотова Виктория Александровна</dc:creator>
  <dc:description/>
  <dc:language>en-US</dc:language>
  <cp:lastModifiedBy>ShutNik</cp:lastModifiedBy>
  <cp:lastPrinted>2021-04-25T15:45:20Z</cp:lastPrinted>
  <dcterms:modified xsi:type="dcterms:W3CDTF">2021-04-27T08:48:06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